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105156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A392-7DC8-4CDB-9B44-19836D8C9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F81A-C1CA-494C-A53B-B17D52A0B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1286-0E51-4B3C-BD32-7180F114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C177-EE40-4A40-AD3B-D345150B3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2BB3-5319-42E8-AAD2-3F1C3EC8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562-DBAB-4113-9383-B7DC40BB7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735-4AB7-41FE-A560-DE4EBF38B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98A7-BFDF-4F2E-A460-8D7881BE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352D-7D95-4331-AC80-AFD6DA3EE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0B18-BC13-4541-BF6D-C32BAC9EE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FA96-B459-48DA-A106-158C12A1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0D48-F97D-4246-BB49-2E1B5224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DC57-E581-4AE1-BB0B-EB56385EB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01A-8220-4C96-A599-04DC9F50E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59EE-0500-4D3F-B5C6-3913455B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F543-511D-4667-BCF9-515BAC067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86E7-5A3B-43DE-94B2-8339A6E6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1567-CBBD-4C64-993A-B20623097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210A-F892-41DC-95EB-4487CDE7F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7511-0453-4015-84DB-C384A11E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856E-38B3-4672-8E95-142540EFC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7F9-65F9-46BA-B6EC-F6CFB41F9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0E73-0C93-43C1-8D41-6EDDFC24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9B25-FC5B-428B-BAB9-ADA14927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7F2-CD00-43F1-9D2C-B1D9DD30F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6A8F-9436-42FD-AD9D-D77F7A33C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C58E-A78C-43CA-9481-929E4227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2D1-2786-4E7F-8158-3751EB31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80BA-00BF-4F9F-B0A1-2427D4C5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C9D8-4AF2-46D7-927F-A10F7CD2B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6BD1-9C20-4F12-AA6A-2C6B5BCD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5A49-E1AB-4A9C-B13C-E91B9BC2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AD37-C898-484B-8C0A-E1974C59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BD21-F123-49E2-8685-33C3B0A9A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18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rowth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eproduction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species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timulus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response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omeostasis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daptation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cience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eory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eer_review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bservation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ypothesis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eriment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erimental_group.wav" TargetMode="External"/><Relationship Id="rId2" Type="http://schemas.openxmlformats.org/officeDocument/2006/relationships/image" Target="../media/image11.png"/><Relationship Id="rId3" Type="http://schemas.openxmlformats.org/officeDocument/2006/relationships/hyperlink" Target="file:///tmp/home/.config/libreoffice/4/user/gallery/control_group.wav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independent_variable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dependent_variable.wav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iology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ta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etric_system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rganization.wav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Grows and Develo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85880" y="2023920"/>
            <a:ext cx="8151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Grow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results in the addition * and, in many organisms, the formation of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940960" y="30988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Reprodu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914400" y="3733920"/>
            <a:ext cx="8591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pe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group of organisms that can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914400" y="2133720"/>
            <a:ext cx="85914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production is not essential for the survival of an individual, but it is essential for the continuation of the spec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4479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49640" y="482616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90560" y="1309680"/>
            <a:ext cx="4238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sponds to Stimul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82640" y="2021040"/>
            <a:ext cx="88948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ything that is part of the internal or external environments and * is called 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timu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762120" y="3809880"/>
            <a:ext cx="7923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*is 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respon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309888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59720" y="392436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quires Ener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795240" y="2021040"/>
            <a:ext cx="81518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things get their energy from foo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795240" y="2728800"/>
            <a:ext cx="853452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st plants and some unicellular organisms use light energy from the Sun to make their own food and fuel their activit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795240" y="4408560"/>
            <a:ext cx="85345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sms that cannot make their own food get energy by consuming other organism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intains Homeosta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95240" y="2021040"/>
            <a:ext cx="8882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homeosta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795240" y="3708360"/>
            <a:ext cx="8150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ything happens within or to an organism that affects its normal state, processes to restore the normal state beg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46520" y="30988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aptations Evolve Over Tim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804960" y="2021040"/>
            <a:ext cx="91011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adap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y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838080" y="4038480"/>
            <a:ext cx="91011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daptations enable organisms to survive and pass on their genes to the next gener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30862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is scie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790560" y="2030400"/>
            <a:ext cx="88106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Sci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body of knowledge based on the study of na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790560" y="322416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, or essential characteristics, of science is scientific inquir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90560" y="4424400"/>
            <a:ext cx="90392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inquiry is both a creative process and a process rooted in unbiased observations and experimen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26035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ientific Theory v. Scientific La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90560" y="2023920"/>
            <a:ext cx="86583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790560" y="3700440"/>
            <a:ext cx="88106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cientific la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s *, but does not explain why the relationship is the way it 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47120" y="31114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kes observations and draws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762120" y="2438280"/>
            <a:ext cx="86580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choose subjects to study and decide what types of data to colle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790560" y="3700440"/>
            <a:ext cx="88106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nalyze the data collected to draw conclus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ands Knowled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790560" y="2027160"/>
            <a:ext cx="8810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cientific fields are guided by research that results in a constant reevaluation of what is know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90560" y="3710160"/>
            <a:ext cx="88106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sciences imitate science, but do not provide science-based explan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519120" y="593640"/>
            <a:ext cx="9448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 algn="ct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3200" spc="-1" strike="noStrike">
                <a:solidFill>
                  <a:srgbClr val="a6000d"/>
                </a:solidFill>
                <a:latin typeface="Arial"/>
              </a:rPr>
              <a:t>The Study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271600" y="2452680"/>
            <a:ext cx="73980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278080" y="3103560"/>
            <a:ext cx="73994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273400" y="3730680"/>
            <a:ext cx="7397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5080" bIns="55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3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785880" y="1309680"/>
            <a:ext cx="889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hallenges Accepted The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790560" y="2023920"/>
            <a:ext cx="7972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welcome debate about one another’s idea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90560" y="3214800"/>
            <a:ext cx="7972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s advance by accommodating new information as it is discover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785880" y="1309680"/>
            <a:ext cx="8891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Questions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790560" y="1925640"/>
            <a:ext cx="83534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or data that are not consistent with current scientific understanding are of interest to scienti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8" descr="ch 1 im 15"/>
          <p:cNvPicPr/>
          <p:nvPr/>
        </p:nvPicPr>
        <p:blipFill>
          <a:blip r:embed="rId1"/>
          <a:stretch/>
        </p:blipFill>
        <p:spPr>
          <a:xfrm>
            <a:off x="730080" y="4273560"/>
            <a:ext cx="9053640" cy="22604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9"/>
          <p:cNvSpPr/>
          <p:nvPr/>
        </p:nvSpPr>
        <p:spPr>
          <a:xfrm>
            <a:off x="790560" y="3460680"/>
            <a:ext cx="873432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inconsistencies often lead to further investig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785880" y="1309680"/>
            <a:ext cx="7977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sts Cla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90560" y="2009880"/>
            <a:ext cx="90392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-based information makes claims based on a large amount of data and observations obtained from unbiased investigations and carefully controlled experimen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790560" y="4654440"/>
            <a:ext cx="86583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are reached from the eviden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85880" y="1309680"/>
            <a:ext cx="7977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ergoes Peer Re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790560" y="2009880"/>
            <a:ext cx="865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it is made public, science-based information is reviewed by scientists’ pe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790560" y="3195720"/>
            <a:ext cx="8810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Peer revi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rocess by which the procedures used during an experiment and the results are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525780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ience in Everyday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790560" y="2004840"/>
            <a:ext cx="888696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is scientifically literate combines a basic understanding of science and its processes with reasoning and thinking skil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The Nature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790560" y="3681360"/>
            <a:ext cx="86583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issues must be addressed by society based on the values it holds importa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k a Ques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777960" y="2021040"/>
            <a:ext cx="82278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cientific inquiry begins with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obser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777960" y="2735280"/>
            <a:ext cx="82278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cientific inquiry involves asking questions and processing information from a variety of reliable sourc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9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750160" y="2133720"/>
            <a:ext cx="4114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rm a Hypothe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790560" y="2021040"/>
            <a:ext cx="82281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hypoth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790560" y="3203640"/>
            <a:ext cx="822816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a hypothesis is supported by data from additional investigations, usually it is considered valid and is accepted by the scientific commun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llect th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777960" y="2021040"/>
            <a:ext cx="82278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a biologist conducts an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experi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40680" y="30988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ntrolled Experi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785880" y="202392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control 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85880" y="322884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experimental 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382284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AUDIO cop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68880" y="26161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Experimental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785880" y="2009880"/>
            <a:ext cx="8663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Independent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785880" y="32050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ependent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2" descr="Vlab_100"/>
          <p:cNvPicPr/>
          <p:nvPr/>
        </p:nvPicPr>
        <p:blipFill>
          <a:blip r:embed="rId1"/>
          <a:stretch/>
        </p:blipFill>
        <p:spPr>
          <a:xfrm>
            <a:off x="2438280" y="4952880"/>
            <a:ext cx="5257800" cy="150048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9"/>
          <p:cNvSpPr/>
          <p:nvPr/>
        </p:nvSpPr>
        <p:spPr>
          <a:xfrm>
            <a:off x="4800600" y="5118120"/>
            <a:ext cx="266688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Dependent and Independent Variab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2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220320" y="2603520"/>
            <a:ext cx="411120" cy="357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6" descr="AUDIO cop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534520" y="37720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Biology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—the science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790560" y="2021040"/>
            <a:ext cx="84297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origins and history of life and once-living th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790560" y="32097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structures of living th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790560" y="3925800"/>
            <a:ext cx="85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how living things interact with one anoth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7"/>
          <p:cNvSpPr/>
          <p:nvPr/>
        </p:nvSpPr>
        <p:spPr>
          <a:xfrm>
            <a:off x="790560" y="51195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how living things fun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0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13360" y="142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ata Gath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785880" y="2023920"/>
            <a:ext cx="88153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785880" y="2733840"/>
            <a:ext cx="89676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tative data can be measurements of time, temperature, length, mass, area, volume, density, or other fac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785880" y="4413240"/>
            <a:ext cx="89676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data are descriptions of what our senses detec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448920" y="21337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785880" y="1309680"/>
            <a:ext cx="79772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ric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762120" y="3657600"/>
            <a:ext cx="828180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units (International System of Units) are commonly used in science for consistency and ease of communic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62120" y="2286000"/>
            <a:ext cx="82818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</a:rPr>
              <a:t>metr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s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6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3360" y="287028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lyze the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781200" y="2021040"/>
            <a:ext cx="417168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graph of the data makes the pattern easier to gras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781200" y="3705120"/>
            <a:ext cx="394308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en when a hypothesis has not been supported, it is valua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ch 1 im 27"/>
          <p:cNvPicPr/>
          <p:nvPr/>
        </p:nvPicPr>
        <p:blipFill>
          <a:blip r:embed="rId1"/>
          <a:stretch/>
        </p:blipFill>
        <p:spPr>
          <a:xfrm>
            <a:off x="5005440" y="2057400"/>
            <a:ext cx="4952880" cy="315108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6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port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Methods of Sci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790560" y="2022480"/>
            <a:ext cx="8810640" cy="15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reviewers agree on the merit of the paper, then the paper is published for review by the public and use by other scienti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0"/>
          <p:cNvSpPr/>
          <p:nvPr/>
        </p:nvSpPr>
        <p:spPr>
          <a:xfrm>
            <a:off x="6629400" y="6753240"/>
            <a:ext cx="531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at do biologists 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90560" y="202104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diversity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90560" y="273384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disea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790560" y="343368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technolo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790560" y="414972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gricul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790560" y="4865760"/>
            <a:ext cx="85820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e the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haracteristics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790560" y="1835280"/>
            <a:ext cx="84297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785880" y="13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haracteristics of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90560" y="1835280"/>
            <a:ext cx="842976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 startAt="5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 startAt="5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 startAt="5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a6000d"/>
              </a:buClr>
              <a:buFont typeface="Arial"/>
              <a:buAutoNum type="arabicPeriod" startAt="5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2" descr="conceptsinmotion"/>
          <p:cNvPicPr/>
          <p:nvPr/>
        </p:nvPicPr>
        <p:blipFill>
          <a:blip r:embed="rId1"/>
          <a:stretch/>
        </p:blipFill>
        <p:spPr>
          <a:xfrm>
            <a:off x="7518240" y="522360"/>
            <a:ext cx="2426040" cy="380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4"/>
          <p:cNvSpPr/>
          <p:nvPr/>
        </p:nvSpPr>
        <p:spPr>
          <a:xfrm>
            <a:off x="1752480" y="3429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Table 1.1 Characteristics of Living Organ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7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762120" y="220968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 are made of one or more cell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762120" y="2971800"/>
            <a:ext cx="84294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are the basic unit of structure and function in all living thing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762120" y="1371600"/>
            <a:ext cx="87390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ade of one or mor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9"/>
          <p:cNvSpPr/>
          <p:nvPr/>
        </p:nvSpPr>
        <p:spPr>
          <a:xfrm>
            <a:off x="781200" y="3214800"/>
            <a:ext cx="83502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pecialized cells are organized into groups that work together called tissu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90560" y="1309680"/>
            <a:ext cx="842976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isplays Organ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560240" y="-14400"/>
            <a:ext cx="22658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tudy of Lif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81200" y="2023920"/>
            <a:ext cx="874368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things also display </a:t>
            </a: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org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means they are *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781200" y="4405320"/>
            <a:ext cx="83502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issues are organized into orga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781200" y="5095800"/>
            <a:ext cx="822780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marL="343080" indent="-34308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 systems work together to support an organis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682560" y="515880"/>
            <a:ext cx="8939160" cy="5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Introduction to Biolo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55440" y="41400"/>
            <a:ext cx="1446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1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90080" y="26161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3-08-25T18:45:41Z</dcterms:modified>
  <cp:revision>571</cp:revision>
  <dc:subject/>
  <dc:title>Glencoe Biology</dc:title>
</cp:coreProperties>
</file>